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9.jpeg" ContentType="image/jpeg"/>
  <Override PartName="/ppt/media/image51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AC5-D065-4ADF-9125-27691D7F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5A0-F41F-49C5-BF67-A1AB2C27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F2B-CDC5-4897-B26A-8336DF09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1F9-9732-4B62-BD6C-4417885F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E8C5-DF9A-4EAF-82D9-67735D6C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C111-2A86-48EF-85A5-B04FFE3F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2006-BF29-4133-96C2-C590526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77B1-1F56-497F-AB05-4E3C2563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12E0-9A63-4B7A-865F-B989B40A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BCBD-A2B1-4BF1-9DC3-63641988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A2DE-BC52-43C9-8ECD-29841B4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57D-C16C-4531-9310-10CF2851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2DE0-704E-4715-832A-0EDA63D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E09-2CA2-4F59-A8CA-994634B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E993-B7DF-4E3F-8858-64F8C73E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2642-0B8B-4653-BBE9-F5FC2306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708-8E9D-4B7F-AC09-0569AA1E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1879-5ADD-4119-89C6-3504173A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C665-61C9-42FC-BAFE-2E3C9A4B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3C70-75A3-4DAC-B60E-BF8BBCB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42B2-926C-4A6A-9A9A-6FF72D0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D8C6-5C4E-4FAF-A9EE-E9F6A6E6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DA8-F38F-4C4B-8DE5-0D4955A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382D-F6E5-406C-B854-573CAD8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3E1A-420E-4F5E-994A-D8F7527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47CA-A55A-46FC-BACC-09DBAF32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CBE0-4FA6-4D85-AAA2-2E11BCDF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A5D0-204F-48A3-94A0-955F180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57FD-F1A4-4048-AC13-BCD02561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3BB9-9CBB-4ABF-B5B4-6E3B4807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CE10-7A38-430A-BF34-48F4F9E8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2D42-610E-4DF5-83E2-49BABFF1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871D7-CACD-4175-B048-446B2CA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84B-C1EA-4A75-87E2-E70EC5ED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C405-31F2-4BE3-B19E-6835F81E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7C75-F519-490E-9D66-8D85E9C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0689-D1FF-4C4A-93C7-78A5687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C756-F1ED-466D-8308-6181414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B72FC-40D6-413D-82BC-040282B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C0DA7-AA21-460C-B6B6-8459BBA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099E-69C5-4EE0-87A1-2F2D48B2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C71B-F892-4BCA-9724-61383F9B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84D2-28C3-4F46-9C57-6E41456C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F2BD-52CA-4EB9-AAF2-A0EE4CC6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785-6662-47CE-9088-5F1D83A7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EB3C-69FC-4CFC-A6C2-D74FFD10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A00E-85EF-4211-909D-6873CFD5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5887-2144-4E05-84D8-7244920A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6425-DAC2-4E6F-BAE4-730CAA86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C1E2A-AA3D-4C43-961D-4250458E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1D15-A87C-49BF-9318-1B1C951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F76C-B5FA-4C07-B57E-398612B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5C04-AD08-4015-8600-190641D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5AFA-5CE4-42C4-896D-73E600C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557D-5F4A-4F2D-87D6-299B36DB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32C-93E5-4D4B-BB80-602EDF8B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81FC-010E-47EA-9085-C4754E82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B6A-7668-460E-898D-5CAD28A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C74-3318-4EBD-A946-6B163CE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176-37BB-4560-A629-77ADED25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2348-F074-4DA2-A5CE-EA1484D9367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A249-1AE9-4A2A-A096-6BCB176A3D3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D35-6725-49EA-8590-1B2D423D846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B4B0-0EE5-4A29-8DA7-458058907E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B609-D389-479A-972E-CAB3A4F297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2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Прямоугольник 3" descr=""/>
          <p:cNvPicPr/>
          <p:nvPr/>
        </p:nvPicPr>
        <p:blipFill>
          <a:blip r:embed="rId1"/>
          <a:stretch/>
        </p:blipFill>
        <p:spPr>
          <a:xfrm>
            <a:off x="-128520" y="3144960"/>
            <a:ext cx="9321840" cy="17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3"/>
          <p:cNvSpPr/>
          <p:nvPr/>
        </p:nvSpPr>
        <p:spPr>
          <a:xfrm>
            <a:off x="214200" y="214200"/>
            <a:ext cx="8786880" cy="1785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71560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ГС</a:t>
            </a:r>
            <a:r>
              <a:rPr b="1" lang="ru-RU" sz="8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запись актов гражданского состояния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Picture 6" descr="C:\Documents and Settings\Надежда\Мои документы\Мои рисунки\семья\thumb_свабдя_540_500.jpg"/>
          <p:cNvPicPr/>
          <p:nvPr/>
        </p:nvPicPr>
        <p:blipFill>
          <a:blip r:embed="rId1"/>
          <a:stretch/>
        </p:blipFill>
        <p:spPr>
          <a:xfrm>
            <a:off x="4000680" y="200016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Documents and Settings\Надежда\Мои документы\Мои рисунки\семья\87368.big.jpg"/>
          <p:cNvPicPr/>
          <p:nvPr/>
        </p:nvPicPr>
        <p:blipFill>
          <a:blip r:embed="rId2"/>
          <a:stretch/>
        </p:blipFill>
        <p:spPr>
          <a:xfrm>
            <a:off x="0" y="366696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Схема 2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9205920" cy="6681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86120" cy="2878200"/>
          </a:xfrm>
          <a:prstGeom prst="rect">
            <a:avLst/>
          </a:prstGeom>
          <a:ln w="0">
            <a:noFill/>
          </a:ln>
        </p:spPr>
      </p:pic>
      <p:cxnSp>
        <p:nvCxnSpPr>
          <p:cNvPr id="295" name="Прямая со стрелкой 5"/>
          <p:cNvCxnSpPr/>
          <p:nvPr/>
        </p:nvCxnSpPr>
        <p:spPr>
          <a:xfrm flipH="1" flipV="1">
            <a:off x="3714120" y="1213920"/>
            <a:ext cx="1143720" cy="2152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Заголовок 1"/>
          <p:cNvGrpSpPr/>
          <p:nvPr/>
        </p:nvGrpSpPr>
        <p:grpSpPr>
          <a:xfrm>
            <a:off x="858960" y="244440"/>
            <a:ext cx="7883280" cy="1255680"/>
            <a:chOff x="858960" y="244440"/>
            <a:chExt cx="7883280" cy="1255680"/>
          </a:xfrm>
        </p:grpSpPr>
        <p:pic>
          <p:nvPicPr>
            <p:cNvPr id="2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58960" y="244440"/>
              <a:ext cx="78832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словия заключения брака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"/>
              </a:rPr>
              <a:t>Достижение брачного возраста (18 лет, в исключительных случаях – с 16 лет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"/>
              </a:rPr>
              <a:t>Взаимное соглас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"/>
              </a:rPr>
              <a:t>Отсутствие другого зарегистрированного бра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"/>
              </a:rPr>
              <a:t>Отсутствие близкого род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mbria"/>
              </a:rPr>
              <a:t>Дееспособность желающих вступить в бра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кругленный прямоугольник 1"/>
          <p:cNvSpPr/>
          <p:nvPr/>
        </p:nvSpPr>
        <p:spPr>
          <a:xfrm>
            <a:off x="1500120" y="357120"/>
            <a:ext cx="6715080" cy="11430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mbria"/>
              </a:rPr>
              <a:t>Причины расторжения б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Прямая со стрелкой 5"/>
          <p:cNvCxnSpPr>
            <a:stCxn id="300" idx="2"/>
          </p:cNvCxnSpPr>
          <p:nvPr/>
        </p:nvCxnSpPr>
        <p:spPr>
          <a:xfrm flipH="1">
            <a:off x="3428280" y="1500120"/>
            <a:ext cx="1429560" cy="19296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02" name="Прямая со стрелкой 6"/>
          <p:cNvCxnSpPr>
            <a:stCxn id="300" idx="2"/>
          </p:cNvCxnSpPr>
          <p:nvPr/>
        </p:nvCxnSpPr>
        <p:spPr>
          <a:xfrm>
            <a:off x="4856760" y="1500120"/>
            <a:ext cx="143640" cy="39297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03" name="Прямая со стрелкой 7"/>
          <p:cNvCxnSpPr>
            <a:stCxn id="300" idx="2"/>
          </p:cNvCxnSpPr>
          <p:nvPr/>
        </p:nvCxnSpPr>
        <p:spPr>
          <a:xfrm>
            <a:off x="4857840" y="1499760"/>
            <a:ext cx="2715120" cy="40014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04" name="Прямая со стрелкой 8"/>
          <p:cNvCxnSpPr>
            <a:stCxn id="300" idx="2"/>
          </p:cNvCxnSpPr>
          <p:nvPr/>
        </p:nvCxnSpPr>
        <p:spPr>
          <a:xfrm>
            <a:off x="4857840" y="1499760"/>
            <a:ext cx="2929680" cy="11437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grpSp>
        <p:nvGrpSpPr>
          <p:cNvPr id="305" name="Овал 19"/>
          <p:cNvGrpSpPr/>
          <p:nvPr/>
        </p:nvGrpSpPr>
        <p:grpSpPr>
          <a:xfrm>
            <a:off x="85680" y="1755720"/>
            <a:ext cx="2181240" cy="1536840"/>
            <a:chOff x="85680" y="1755720"/>
            <a:chExt cx="2181240" cy="1536840"/>
          </a:xfrm>
        </p:grpSpPr>
        <p:pic>
          <p:nvPicPr>
            <p:cNvPr id="306" name="Овал 19" descr=""/>
            <p:cNvPicPr/>
            <p:nvPr/>
          </p:nvPicPr>
          <p:blipFill>
            <a:blip r:embed="rId1"/>
            <a:stretch/>
          </p:blipFill>
          <p:spPr>
            <a:xfrm>
              <a:off x="85680" y="1755720"/>
              <a:ext cx="21812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46040" y="1995480"/>
              <a:ext cx="146520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Груб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Овал 20"/>
          <p:cNvGrpSpPr/>
          <p:nvPr/>
        </p:nvGrpSpPr>
        <p:grpSpPr>
          <a:xfrm>
            <a:off x="2444760" y="3402000"/>
            <a:ext cx="1968480" cy="1461960"/>
            <a:chOff x="2444760" y="3402000"/>
            <a:chExt cx="1968480" cy="1461960"/>
          </a:xfrm>
        </p:grpSpPr>
        <p:pic>
          <p:nvPicPr>
            <p:cNvPr id="309" name="Овал 20" descr=""/>
            <p:cNvPicPr/>
            <p:nvPr/>
          </p:nvPicPr>
          <p:blipFill>
            <a:blip r:embed="rId2"/>
            <a:stretch/>
          </p:blipFill>
          <p:spPr>
            <a:xfrm>
              <a:off x="2444760" y="3402000"/>
              <a:ext cx="19684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771640" y="3627360"/>
              <a:ext cx="1314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Эго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Овал 21"/>
          <p:cNvGrpSpPr/>
          <p:nvPr/>
        </p:nvGrpSpPr>
        <p:grpSpPr>
          <a:xfrm>
            <a:off x="3803760" y="5400720"/>
            <a:ext cx="2395440" cy="1324080"/>
            <a:chOff x="3803760" y="5400720"/>
            <a:chExt cx="2395440" cy="1324080"/>
          </a:xfrm>
        </p:grpSpPr>
        <p:pic>
          <p:nvPicPr>
            <p:cNvPr id="312" name="Овал 21" descr=""/>
            <p:cNvPicPr/>
            <p:nvPr/>
          </p:nvPicPr>
          <p:blipFill>
            <a:blip r:embed="rId3"/>
            <a:stretch/>
          </p:blipFill>
          <p:spPr>
            <a:xfrm>
              <a:off x="3803760" y="5400720"/>
              <a:ext cx="2395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192560" y="5607000"/>
              <a:ext cx="16160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Супружеск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невер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Овал 22"/>
          <p:cNvGrpSpPr/>
          <p:nvPr/>
        </p:nvGrpSpPr>
        <p:grpSpPr>
          <a:xfrm>
            <a:off x="6662880" y="5467320"/>
            <a:ext cx="2322360" cy="1330200"/>
            <a:chOff x="6662880" y="5467320"/>
            <a:chExt cx="2322360" cy="1330200"/>
          </a:xfrm>
        </p:grpSpPr>
        <p:pic>
          <p:nvPicPr>
            <p:cNvPr id="315" name="Овал 22" descr=""/>
            <p:cNvPicPr/>
            <p:nvPr/>
          </p:nvPicPr>
          <p:blipFill>
            <a:blip r:embed="rId4"/>
            <a:stretch/>
          </p:blipFill>
          <p:spPr>
            <a:xfrm>
              <a:off x="6662880" y="5467320"/>
              <a:ext cx="232236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39080" y="5678640"/>
              <a:ext cx="1566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жесток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Овал 23"/>
          <p:cNvGrpSpPr/>
          <p:nvPr/>
        </p:nvGrpSpPr>
        <p:grpSpPr>
          <a:xfrm>
            <a:off x="6443640" y="2614680"/>
            <a:ext cx="2755800" cy="1609560"/>
            <a:chOff x="6443640" y="2614680"/>
            <a:chExt cx="2755800" cy="1609560"/>
          </a:xfrm>
        </p:grpSpPr>
        <p:pic>
          <p:nvPicPr>
            <p:cNvPr id="318" name="Овал 23" descr=""/>
            <p:cNvPicPr/>
            <p:nvPr/>
          </p:nvPicPr>
          <p:blipFill>
            <a:blip r:embed="rId5"/>
            <a:stretch/>
          </p:blipFill>
          <p:spPr>
            <a:xfrm>
              <a:off x="6443640" y="2614680"/>
              <a:ext cx="27558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888240" y="2862360"/>
              <a:ext cx="18684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Неумение вести домашнее 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Овал 24"/>
          <p:cNvGrpSpPr/>
          <p:nvPr/>
        </p:nvGrpSpPr>
        <p:grpSpPr>
          <a:xfrm>
            <a:off x="85680" y="4754520"/>
            <a:ext cx="2468520" cy="1609920"/>
            <a:chOff x="85680" y="4754520"/>
            <a:chExt cx="2468520" cy="1609920"/>
          </a:xfrm>
        </p:grpSpPr>
        <p:pic>
          <p:nvPicPr>
            <p:cNvPr id="321" name="Овал 24" descr=""/>
            <p:cNvPicPr/>
            <p:nvPr/>
          </p:nvPicPr>
          <p:blipFill>
            <a:blip r:embed="rId6"/>
            <a:stretch/>
          </p:blipFill>
          <p:spPr>
            <a:xfrm>
              <a:off x="85680" y="4754520"/>
              <a:ext cx="246852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87440" y="5005440"/>
              <a:ext cx="166824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Пьянств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нарко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Прямая со стрелкой 3"/>
          <p:cNvCxnSpPr>
            <a:stCxn id="300" idx="2"/>
          </p:cNvCxnSpPr>
          <p:nvPr/>
        </p:nvCxnSpPr>
        <p:spPr>
          <a:xfrm flipH="1">
            <a:off x="2214360" y="1499760"/>
            <a:ext cx="2643840" cy="8578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4" name="Прямая со стрелкой 4"/>
          <p:cNvCxnSpPr>
            <a:stCxn id="300" idx="2"/>
          </p:cNvCxnSpPr>
          <p:nvPr/>
        </p:nvCxnSpPr>
        <p:spPr>
          <a:xfrm flipH="1">
            <a:off x="1142280" y="1500120"/>
            <a:ext cx="3715560" cy="3286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772400" cy="1143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mbria"/>
              </a:rPr>
              <a:t>Условия расторжения бра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326" name="Скругленный прямоугольник 2"/>
          <p:cNvGrpSpPr/>
          <p:nvPr/>
        </p:nvGrpSpPr>
        <p:grpSpPr>
          <a:xfrm>
            <a:off x="158760" y="1616040"/>
            <a:ext cx="4541760" cy="1608120"/>
            <a:chOff x="158760" y="1616040"/>
            <a:chExt cx="4541760" cy="1608120"/>
          </a:xfrm>
        </p:grpSpPr>
        <p:pic>
          <p:nvPicPr>
            <p:cNvPr id="32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58760" y="1616040"/>
              <a:ext cx="454176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87280" y="1716120"/>
              <a:ext cx="428328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mbria"/>
                </a:rPr>
                <a:t>Расторжение брака в  ЗАГ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3"/>
          <p:cNvGrpSpPr/>
          <p:nvPr/>
        </p:nvGrpSpPr>
        <p:grpSpPr>
          <a:xfrm>
            <a:off x="5016600" y="1616040"/>
            <a:ext cx="4041720" cy="1608120"/>
            <a:chOff x="5016600" y="1616040"/>
            <a:chExt cx="4041720" cy="1608120"/>
          </a:xfrm>
        </p:grpSpPr>
        <p:pic>
          <p:nvPicPr>
            <p:cNvPr id="33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016600" y="1616040"/>
              <a:ext cx="40417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45120" y="1716120"/>
              <a:ext cx="378288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mbria"/>
                </a:rPr>
                <a:t>Расторжение брака в су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Скругленный прямоугольник 4"/>
          <p:cNvSpPr/>
          <p:nvPr/>
        </p:nvSpPr>
        <p:spPr>
          <a:xfrm>
            <a:off x="214200" y="3429000"/>
            <a:ext cx="3643560" cy="3286080"/>
          </a:xfrm>
          <a:prstGeom prst="roundRect">
            <a:avLst>
              <a:gd name="adj" fmla="val 16667"/>
            </a:avLst>
          </a:prstGeom>
          <a:solidFill>
            <a:srgbClr val="d3cece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Если нет несовершенн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Если оба супруга согласны на раз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Если один из супругов отбывает наказание (свыше 3-х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гнутая вниз стрелка 6"/>
          <p:cNvSpPr/>
          <p:nvPr/>
        </p:nvSpPr>
        <p:spPr>
          <a:xfrm>
            <a:off x="4000680" y="3214800"/>
            <a:ext cx="4857480" cy="3286080"/>
          </a:xfrm>
          <a:custGeom>
            <a:avLst/>
            <a:gdLst>
              <a:gd name="textAreaLeft" fmla="*/ 906120 w 4857480"/>
              <a:gd name="textAreaRight" fmla="*/ 3540240 w 4857480"/>
              <a:gd name="textAreaTop" fmla="*/ 440280 h 3286080"/>
              <a:gd name="textAreaBottom" fmla="*/ 284580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61" hR="21600" stAng="10800000" swAng="-5400000"/>
                <a:lnTo>
                  <a:pt x="11713" y="21600"/>
                </a:lnTo>
                <a:arcTo wR="8061" hR="21600" stAng="5400000" swAng="-3319228"/>
                <a:lnTo>
                  <a:pt x="21344" y="5400"/>
                </a:lnTo>
                <a:lnTo>
                  <a:pt x="17947" y="0"/>
                </a:lnTo>
                <a:lnTo>
                  <a:pt x="14038" y="5400"/>
                </a:lnTo>
                <a:lnTo>
                  <a:pt x="15865" y="5400"/>
                </a:lnTo>
                <a:arcTo wR="8061" hR="21600" stAng="2080772" swAng="3021600"/>
                <a:lnTo>
                  <a:pt x="9887" y="21038"/>
                </a:lnTo>
                <a:arcTo wR="8061" hR="21600" stAng="5697628" swAng="5102372"/>
                <a:close/>
              </a:path>
              <a:path fill="darkenLess" w="21600" h="21600">
                <a:moveTo>
                  <a:pt x="0" y="0"/>
                </a:moveTo>
                <a:arcTo wR="8061" hR="21600" stAng="10800000" swAng="-5400000"/>
                <a:lnTo>
                  <a:pt x="11713" y="21600"/>
                </a:lnTo>
                <a:arcTo wR="8061" hR="21600" stAng="5400000" swAng="297628"/>
                <a:lnTo>
                  <a:pt x="9887" y="21038"/>
                </a:lnTo>
                <a:arcTo wR="8061" hR="21600" stAng="5697628" swAng="5102372"/>
                <a:close/>
              </a:path>
            </a:pathLst>
          </a:custGeom>
          <a:solidFill>
            <a:srgbClr val="fad9c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Если есть несовершеннолетние дети, или один из супругов не согласен на раз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Прямая со стрелкой 8"/>
          <p:cNvCxnSpPr>
            <a:stCxn id="325" idx="2"/>
          </p:cNvCxnSpPr>
          <p:nvPr/>
        </p:nvCxnSpPr>
        <p:spPr>
          <a:xfrm flipH="1">
            <a:off x="2428560" y="1285920"/>
            <a:ext cx="2314800" cy="3578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35" name="Прямая со стрелкой 12"/>
          <p:cNvCxnSpPr>
            <a:stCxn id="325" idx="2"/>
          </p:cNvCxnSpPr>
          <p:nvPr/>
        </p:nvCxnSpPr>
        <p:spPr>
          <a:xfrm>
            <a:off x="4743360" y="1285920"/>
            <a:ext cx="2044080" cy="3578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36" name="Прямая со стрелкой 15"/>
          <p:cNvCxnSpPr>
            <a:endCxn id="332" idx="0"/>
          </p:cNvCxnSpPr>
          <p:nvPr/>
        </p:nvCxnSpPr>
        <p:spPr>
          <a:xfrm flipH="1">
            <a:off x="2034720" y="3143160"/>
            <a:ext cx="394560" cy="2865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4643280" cy="457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ые неимущественные и имущественн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граждан, возникающие из брака, родства, усыновления, опеки и попечительства над несовершеннолетними, принятия детей в семью на воспит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9" name="Rectangle 5"/>
          <p:cNvGrpSpPr/>
          <p:nvPr/>
        </p:nvGrpSpPr>
        <p:grpSpPr>
          <a:xfrm>
            <a:off x="5499000" y="2182680"/>
            <a:ext cx="3651480" cy="3254400"/>
            <a:chOff x="5499000" y="2182680"/>
            <a:chExt cx="3651480" cy="3254400"/>
          </a:xfrm>
        </p:grpSpPr>
        <p:pic>
          <p:nvPicPr>
            <p:cNvPr id="340" name="Rectangle 5" descr=""/>
            <p:cNvPicPr/>
            <p:nvPr/>
          </p:nvPicPr>
          <p:blipFill>
            <a:blip r:embed="rId1"/>
            <a:stretch/>
          </p:blipFill>
          <p:spPr>
            <a:xfrm>
              <a:off x="5499000" y="2182680"/>
              <a:ext cx="36514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786280" y="2214720"/>
              <a:ext cx="30718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mbria"/>
                </a:rPr>
                <a:t>Основной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mbria"/>
                </a:rPr>
                <a:t>закон семьи 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Cambria"/>
                </a:rPr>
                <a:t>Семейный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Cambria"/>
                </a:rPr>
                <a:t>кодекс РФ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1"/>
          <p:cNvSpPr/>
          <p:nvPr/>
        </p:nvSpPr>
        <p:spPr>
          <a:xfrm>
            <a:off x="2500200" y="500040"/>
            <a:ext cx="3786480" cy="200016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Семейный кодекс Р.Ф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Прямая со стрелкой 3"/>
          <p:cNvCxnSpPr>
            <a:stCxn id="342" idx="1"/>
          </p:cNvCxnSpPr>
          <p:nvPr/>
        </p:nvCxnSpPr>
        <p:spPr>
          <a:xfrm flipH="1">
            <a:off x="1250640" y="1499040"/>
            <a:ext cx="1249920" cy="107244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344" name="Прямая со стрелкой 4"/>
          <p:cNvCxnSpPr/>
          <p:nvPr/>
        </p:nvCxnSpPr>
        <p:spPr>
          <a:xfrm>
            <a:off x="4357800" y="2500200"/>
            <a:ext cx="72000" cy="192960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345" name="Прямая со стрелкой 5"/>
          <p:cNvCxnSpPr>
            <a:stCxn id="342" idx="3"/>
          </p:cNvCxnSpPr>
          <p:nvPr/>
        </p:nvCxnSpPr>
        <p:spPr>
          <a:xfrm>
            <a:off x="6286680" y="1499760"/>
            <a:ext cx="1643760" cy="85788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346" name="Прямая со стрелкой 6"/>
          <p:cNvCxnSpPr>
            <a:stCxn id="342" idx="2"/>
          </p:cNvCxnSpPr>
          <p:nvPr/>
        </p:nvCxnSpPr>
        <p:spPr>
          <a:xfrm>
            <a:off x="4391640" y="2500200"/>
            <a:ext cx="3251880" cy="250128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347" name="Прямая со стрелкой 7"/>
          <p:cNvCxnSpPr/>
          <p:nvPr/>
        </p:nvCxnSpPr>
        <p:spPr>
          <a:xfrm flipH="1">
            <a:off x="1356840" y="2499840"/>
            <a:ext cx="2929680" cy="264420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grpSp>
        <p:nvGrpSpPr>
          <p:cNvPr id="348" name="Овал 16"/>
          <p:cNvGrpSpPr/>
          <p:nvPr/>
        </p:nvGrpSpPr>
        <p:grpSpPr>
          <a:xfrm>
            <a:off x="158760" y="5114880"/>
            <a:ext cx="2608200" cy="1682640"/>
            <a:chOff x="158760" y="5114880"/>
            <a:chExt cx="2608200" cy="1682640"/>
          </a:xfrm>
        </p:grpSpPr>
        <p:pic>
          <p:nvPicPr>
            <p:cNvPr id="349" name="Овал 16" descr=""/>
            <p:cNvPicPr/>
            <p:nvPr/>
          </p:nvPicPr>
          <p:blipFill>
            <a:blip r:embed="rId1"/>
            <a:stretch/>
          </p:blipFill>
          <p:spPr>
            <a:xfrm>
              <a:off x="158760" y="5114880"/>
              <a:ext cx="260820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81040" y="5373720"/>
              <a:ext cx="17668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Личные права супруг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Овал 17"/>
          <p:cNvGrpSpPr/>
          <p:nvPr/>
        </p:nvGrpSpPr>
        <p:grpSpPr>
          <a:xfrm>
            <a:off x="-55440" y="2541600"/>
            <a:ext cx="2609640" cy="1682640"/>
            <a:chOff x="-55440" y="2541600"/>
            <a:chExt cx="2609640" cy="1682640"/>
          </a:xfrm>
        </p:grpSpPr>
        <p:pic>
          <p:nvPicPr>
            <p:cNvPr id="352" name="Овал 17" descr=""/>
            <p:cNvPicPr/>
            <p:nvPr/>
          </p:nvPicPr>
          <p:blipFill>
            <a:blip r:embed="rId2"/>
            <a:stretch/>
          </p:blipFill>
          <p:spPr>
            <a:xfrm>
              <a:off x="-55440" y="2541600"/>
              <a:ext cx="260964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66840" y="2801880"/>
              <a:ext cx="17668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Правила вступления в бр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Овал 18"/>
          <p:cNvGrpSpPr/>
          <p:nvPr/>
        </p:nvGrpSpPr>
        <p:grpSpPr>
          <a:xfrm>
            <a:off x="6089760" y="4968720"/>
            <a:ext cx="3109680" cy="1681200"/>
            <a:chOff x="6089760" y="4968720"/>
            <a:chExt cx="3109680" cy="1681200"/>
          </a:xfrm>
        </p:grpSpPr>
        <p:pic>
          <p:nvPicPr>
            <p:cNvPr id="355" name="Овал 18" descr=""/>
            <p:cNvPicPr/>
            <p:nvPr/>
          </p:nvPicPr>
          <p:blipFill>
            <a:blip r:embed="rId3"/>
            <a:stretch/>
          </p:blipFill>
          <p:spPr>
            <a:xfrm>
              <a:off x="6089760" y="4968720"/>
              <a:ext cx="310968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6583320" y="5230800"/>
              <a:ext cx="212112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Имущественные права супруг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Овал 19"/>
          <p:cNvGrpSpPr/>
          <p:nvPr/>
        </p:nvGrpSpPr>
        <p:grpSpPr>
          <a:xfrm>
            <a:off x="6589800" y="2328840"/>
            <a:ext cx="2609640" cy="1682640"/>
            <a:chOff x="6589800" y="2328840"/>
            <a:chExt cx="2609640" cy="1682640"/>
          </a:xfrm>
        </p:grpSpPr>
        <p:pic>
          <p:nvPicPr>
            <p:cNvPr id="358" name="Овал 19" descr=""/>
            <p:cNvPicPr/>
            <p:nvPr/>
          </p:nvPicPr>
          <p:blipFill>
            <a:blip r:embed="rId4"/>
            <a:stretch/>
          </p:blipFill>
          <p:spPr>
            <a:xfrm>
              <a:off x="6589800" y="2328840"/>
              <a:ext cx="260964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010280" y="2587680"/>
              <a:ext cx="17668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Порядок расторжения бра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Овал 26"/>
          <p:cNvGrpSpPr/>
          <p:nvPr/>
        </p:nvGrpSpPr>
        <p:grpSpPr>
          <a:xfrm>
            <a:off x="3157560" y="4400640"/>
            <a:ext cx="2614680" cy="1676160"/>
            <a:chOff x="3157560" y="4400640"/>
            <a:chExt cx="2614680" cy="1676160"/>
          </a:xfrm>
        </p:grpSpPr>
        <p:pic>
          <p:nvPicPr>
            <p:cNvPr id="361" name="Овал 26" descr=""/>
            <p:cNvPicPr/>
            <p:nvPr/>
          </p:nvPicPr>
          <p:blipFill>
            <a:blip r:embed="rId5"/>
            <a:stretch/>
          </p:blipFill>
          <p:spPr>
            <a:xfrm>
              <a:off x="3157560" y="4400640"/>
              <a:ext cx="261468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81280" y="4659480"/>
              <a:ext cx="176688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Обязанности супруг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Заголовок 1"/>
          <p:cNvGrpSpPr/>
          <p:nvPr/>
        </p:nvGrpSpPr>
        <p:grpSpPr>
          <a:xfrm>
            <a:off x="158760" y="244440"/>
            <a:ext cx="8826480" cy="1693800"/>
            <a:chOff x="158760" y="244440"/>
            <a:chExt cx="8826480" cy="1693800"/>
          </a:xfrm>
        </p:grpSpPr>
        <p:pic>
          <p:nvPicPr>
            <p:cNvPr id="3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58760" y="244440"/>
              <a:ext cx="882648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14200" y="272880"/>
              <a:ext cx="871560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300" spc="-1" strike="noStrike">
                  <a:solidFill>
                    <a:srgbClr val="ff0000"/>
                  </a:solidFill>
                  <a:latin typeface="Cambria"/>
                </a:rPr>
                <a:t>Семейные личные правоотношения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1578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29120" y="1428480"/>
            <a:ext cx="37339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14400" y="2786040"/>
            <a:ext cx="3733920" cy="3348000"/>
          </a:xfrm>
          <a:prstGeom prst="rect">
            <a:avLst/>
          </a:prstGeom>
          <a:noFill/>
          <a:ln w="9360">
            <a:solidFill>
              <a:srgbClr val="af3408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69" name="Содержимое 5"/>
          <p:cNvGrpSpPr/>
          <p:nvPr/>
        </p:nvGrpSpPr>
        <p:grpSpPr>
          <a:xfrm>
            <a:off x="676440" y="2225520"/>
            <a:ext cx="8065800" cy="3986280"/>
            <a:chOff x="676440" y="2225520"/>
            <a:chExt cx="8065800" cy="3986280"/>
          </a:xfrm>
        </p:grpSpPr>
        <p:pic>
          <p:nvPicPr>
            <p:cNvPr id="370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676440" y="2225520"/>
              <a:ext cx="80658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857160" y="2357280"/>
              <a:ext cx="782964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ambria"/>
                </a:rPr>
                <a:t>заключение брака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ambria"/>
                </a:rPr>
                <a:t>развод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ambria"/>
                </a:rPr>
                <a:t>усыновле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Заголовок 1"/>
          <p:cNvGrpSpPr/>
          <p:nvPr/>
        </p:nvGrpSpPr>
        <p:grpSpPr>
          <a:xfrm>
            <a:off x="158760" y="171360"/>
            <a:ext cx="8942400" cy="1833480"/>
            <a:chOff x="158760" y="171360"/>
            <a:chExt cx="8942400" cy="1833480"/>
          </a:xfrm>
        </p:grpSpPr>
        <p:pic>
          <p:nvPicPr>
            <p:cNvPr id="37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58760" y="171360"/>
              <a:ext cx="894240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14200" y="272880"/>
              <a:ext cx="87156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Cambria"/>
                </a:rPr>
                <a:t>Семейные имущественные правоотнош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37339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29120" y="1428480"/>
            <a:ext cx="37339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786040"/>
            <a:ext cx="3733920" cy="3348000"/>
          </a:xfrm>
          <a:prstGeom prst="rect">
            <a:avLst/>
          </a:prstGeom>
          <a:noFill/>
          <a:ln w="9360">
            <a:solidFill>
              <a:srgbClr val="af3408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78" name="Содержимое 5"/>
          <p:cNvGrpSpPr/>
          <p:nvPr/>
        </p:nvGrpSpPr>
        <p:grpSpPr>
          <a:xfrm>
            <a:off x="231840" y="2193840"/>
            <a:ext cx="8680320" cy="4017960"/>
            <a:chOff x="231840" y="2193840"/>
            <a:chExt cx="8680320" cy="4017960"/>
          </a:xfrm>
        </p:grpSpPr>
        <p:pic>
          <p:nvPicPr>
            <p:cNvPr id="379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231840" y="2193840"/>
              <a:ext cx="868032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85840" y="2357280"/>
              <a:ext cx="8572320" cy="37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 u="sng">
                  <a:solidFill>
                    <a:srgbClr val="7030a0"/>
                  </a:solidFill>
                  <a:uFillTx/>
                  <a:latin typeface="Cambria"/>
                </a:rPr>
                <a:t>Имущество членов семьи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ambria"/>
                </a:rPr>
                <a:t>квартира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ambria"/>
                </a:rPr>
                <a:t>дача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ambria"/>
                </a:rPr>
                <a:t>машина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ambria"/>
                </a:rPr>
                <a:t>и другие вещ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571320" y="1785600"/>
            <a:ext cx="8072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Личные права супруго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572240" y="1428840"/>
            <a:ext cx="109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3000"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 u="sng">
              <a:solidFill>
                <a:srgbClr val="d34817"/>
              </a:solidFill>
              <a:uFillTx/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00040" y="2714760"/>
            <a:ext cx="82152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Выбор фамил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Выбор места житель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Выбор професси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На гражданств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На воспитание и образование дете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На отцовство и материнств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mbria"/>
              </a:rPr>
              <a:t>Права супругов</a:t>
            </a:r>
            <a:endParaRPr b="0" lang="en-US" sz="7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БРАК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Arial"/>
              </a:rPr>
              <a:t>ЗАГ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емейное прав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299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20000"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 u="sng">
              <a:solidFill>
                <a:srgbClr val="d34817"/>
              </a:solidFill>
              <a:uFillTx/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28440" y="1447920"/>
            <a:ext cx="77151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Имущественные права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5143320"/>
            <a:ext cx="37339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mbria"/>
              </a:rPr>
              <a:t>Права супругов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2920" y="2714760"/>
            <a:ext cx="87868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вместная собственност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ная собственность каждого из супругов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лиментные отноше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рачный договор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Имущественные права супругов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447920"/>
            <a:ext cx="3749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конный режим имущества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ё имущество, которое было у супругов до брака остаётся их личным имущество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ичным имуществом остаётся и то, которое один из супругов получил в наследство, дар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ичным имуществом являются вещи индивидуального пользования, кроме драгоценносте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ё имущество, нажитое в браке считается совместно нажитым и делится в равных долях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Договорной режим имуществ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удьба имущества решается в брачном договоре (контракте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брачном контракте можно предусмотреть обязанность одного из супругов оказывать помощь другому супругу в случае развод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Скругленный прямоугольник 3"/>
          <p:cNvSpPr/>
          <p:nvPr/>
        </p:nvSpPr>
        <p:spPr>
          <a:xfrm>
            <a:off x="214200" y="214200"/>
            <a:ext cx="8786880" cy="271476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mbria"/>
              </a:rPr>
              <a:t>Брачный договор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это соглашение мужчины и женщины о том, какие имущественные права будет иметь каждый из них  в браке или в случае расторжения бр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Скругленный прямоугольник 4"/>
          <p:cNvGrpSpPr/>
          <p:nvPr/>
        </p:nvGrpSpPr>
        <p:grpSpPr>
          <a:xfrm>
            <a:off x="158760" y="4468680"/>
            <a:ext cx="8826480" cy="1608120"/>
            <a:chOff x="158760" y="4468680"/>
            <a:chExt cx="8826480" cy="1608120"/>
          </a:xfrm>
        </p:grpSpPr>
        <p:pic>
          <p:nvPicPr>
            <p:cNvPr id="396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58760" y="4468680"/>
              <a:ext cx="88264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87280" y="45734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030a0"/>
                  </a:solidFill>
                  <a:latin typeface="Cambria"/>
                </a:rPr>
                <a:t>Брачный договор заключается до вступления в брак или во время  бр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Скругленный прямоугольник 1"/>
          <p:cNvSpPr/>
          <p:nvPr/>
        </p:nvSpPr>
        <p:spPr>
          <a:xfrm>
            <a:off x="857160" y="642960"/>
            <a:ext cx="7929720" cy="9288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Обязанности родителей 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Стрелка вниз 2"/>
          <p:cNvGrpSpPr/>
          <p:nvPr/>
        </p:nvGrpSpPr>
        <p:grpSpPr>
          <a:xfrm>
            <a:off x="1438200" y="1616040"/>
            <a:ext cx="768600" cy="1681200"/>
            <a:chOff x="1438200" y="1616040"/>
            <a:chExt cx="768600" cy="1681200"/>
          </a:xfrm>
        </p:grpSpPr>
        <p:pic>
          <p:nvPicPr>
            <p:cNvPr id="400" name="Стрелка вниз 2" descr=""/>
            <p:cNvPicPr/>
            <p:nvPr/>
          </p:nvPicPr>
          <p:blipFill>
            <a:blip r:embed="rId1"/>
            <a:stretch/>
          </p:blipFill>
          <p:spPr>
            <a:xfrm>
              <a:off x="1438200" y="1616040"/>
              <a:ext cx="76860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660680" y="1643040"/>
              <a:ext cx="32220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Стрелка вниз 3"/>
          <p:cNvGrpSpPr/>
          <p:nvPr/>
        </p:nvGrpSpPr>
        <p:grpSpPr>
          <a:xfrm>
            <a:off x="3870360" y="1616040"/>
            <a:ext cx="762120" cy="1681200"/>
            <a:chOff x="3870360" y="1616040"/>
            <a:chExt cx="762120" cy="1681200"/>
          </a:xfrm>
        </p:grpSpPr>
        <p:pic>
          <p:nvPicPr>
            <p:cNvPr id="403" name="Стрелка вниз 3" descr=""/>
            <p:cNvPicPr/>
            <p:nvPr/>
          </p:nvPicPr>
          <p:blipFill>
            <a:blip r:embed="rId2"/>
            <a:stretch/>
          </p:blipFill>
          <p:spPr>
            <a:xfrm>
              <a:off x="3870360" y="1616040"/>
              <a:ext cx="7621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089240" y="1643040"/>
              <a:ext cx="32256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Стрелка вниз 4"/>
          <p:cNvGrpSpPr/>
          <p:nvPr/>
        </p:nvGrpSpPr>
        <p:grpSpPr>
          <a:xfrm>
            <a:off x="7223040" y="1616040"/>
            <a:ext cx="768600" cy="1681200"/>
            <a:chOff x="7223040" y="1616040"/>
            <a:chExt cx="768600" cy="1681200"/>
          </a:xfrm>
        </p:grpSpPr>
        <p:pic>
          <p:nvPicPr>
            <p:cNvPr id="406" name="Стрелка вниз 4" descr=""/>
            <p:cNvPicPr/>
            <p:nvPr/>
          </p:nvPicPr>
          <p:blipFill>
            <a:blip r:embed="rId3"/>
            <a:stretch/>
          </p:blipFill>
          <p:spPr>
            <a:xfrm>
              <a:off x="7223040" y="1616040"/>
              <a:ext cx="76860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446960" y="1643040"/>
              <a:ext cx="32220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Прямоугольник 5"/>
          <p:cNvSpPr/>
          <p:nvPr/>
        </p:nvSpPr>
        <p:spPr>
          <a:xfrm>
            <a:off x="285840" y="3286080"/>
            <a:ext cx="2643120" cy="3357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mbria"/>
              </a:rPr>
              <a:t>Родители обязаны содержать и воспитывать своих детей. Защищать их интере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3143160" y="3286080"/>
            <a:ext cx="2428920" cy="3357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mbria"/>
              </a:rPr>
              <a:t>Дети обязаны содержать и заботиться о своих старых родит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5786280" y="3286080"/>
            <a:ext cx="3143520" cy="3357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mbria"/>
              </a:rPr>
              <a:t>Родители могут быть лишены родительских прав в суде, если они не исполняют свои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Скругленный прямоугольник 1"/>
          <p:cNvSpPr/>
          <p:nvPr/>
        </p:nvSpPr>
        <p:spPr>
          <a:xfrm>
            <a:off x="714240" y="214200"/>
            <a:ext cx="7715520" cy="12859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mbria"/>
              </a:rPr>
              <a:t>Права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500040" y="1571760"/>
          <a:ext cx="8001000" cy="49147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Группа 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mbria"/>
                        </a:rPr>
                        <a:t>Права ребё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щегражданские 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ыражать своё мнение, выезжать за пределы страны и возвращаться обратно, обращаться в суд, органы оп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итические 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аствовать в мирных собраниях, быть членом детской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емейные 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ить и воспитываться в се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циальные 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аво на бесплатное образование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держка детства государств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илищные 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аво на ж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рудовые  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аво на труд в свободное от учёбы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кругленный прямоугольник 1"/>
          <p:cNvSpPr/>
          <p:nvPr/>
        </p:nvSpPr>
        <p:spPr>
          <a:xfrm>
            <a:off x="285840" y="428760"/>
            <a:ext cx="5357880" cy="26431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Cambria"/>
              </a:rPr>
              <a:t>Семья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– малая группа, основанная на браке или кровном родстве, связанная общностью быта, взаимной помощью, моральной и правовой ответств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3929040" y="3429000"/>
            <a:ext cx="4977000" cy="3214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6072120" y="714240"/>
            <a:ext cx="2935440" cy="1952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928800" y="3357720"/>
            <a:ext cx="2028600" cy="30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4"/>
          <p:cNvSpPr/>
          <p:nvPr/>
        </p:nvSpPr>
        <p:spPr>
          <a:xfrm>
            <a:off x="142920" y="357120"/>
            <a:ext cx="8858160" cy="17859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и бывают разные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428920" y="2214720"/>
            <a:ext cx="4714920" cy="42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Овал 17"/>
          <p:cNvSpPr/>
          <p:nvPr/>
        </p:nvSpPr>
        <p:spPr>
          <a:xfrm>
            <a:off x="6215040" y="214200"/>
            <a:ext cx="2000160" cy="857520"/>
          </a:xfrm>
          <a:prstGeom prst="ellipse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Cambria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4691160" y="1357200"/>
            <a:ext cx="4452840" cy="388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0" y="401760"/>
            <a:ext cx="50720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43" name="Овал 20"/>
          <p:cNvGrpSpPr/>
          <p:nvPr/>
        </p:nvGrpSpPr>
        <p:grpSpPr>
          <a:xfrm>
            <a:off x="-55440" y="3828960"/>
            <a:ext cx="4682880" cy="749520"/>
            <a:chOff x="-55440" y="3828960"/>
            <a:chExt cx="4682880" cy="749520"/>
          </a:xfrm>
        </p:grpSpPr>
        <p:pic>
          <p:nvPicPr>
            <p:cNvPr id="244" name="Овал 20" descr=""/>
            <p:cNvPicPr/>
            <p:nvPr/>
          </p:nvPicPr>
          <p:blipFill>
            <a:blip r:embed="rId3"/>
            <a:stretch/>
          </p:blipFill>
          <p:spPr>
            <a:xfrm>
              <a:off x="-55440" y="3828960"/>
              <a:ext cx="46828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69960" y="3951360"/>
              <a:ext cx="3232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Муж, жена, де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6" name="Прямая со стрелкой 18"/>
          <p:cNvCxnSpPr/>
          <p:nvPr/>
        </p:nvCxnSpPr>
        <p:spPr>
          <a:xfrm flipH="1">
            <a:off x="5071320" y="785880"/>
            <a:ext cx="1143720" cy="2865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grpSp>
        <p:nvGrpSpPr>
          <p:cNvPr id="247" name="Овал 22"/>
          <p:cNvGrpSpPr/>
          <p:nvPr/>
        </p:nvGrpSpPr>
        <p:grpSpPr>
          <a:xfrm>
            <a:off x="3444840" y="5041800"/>
            <a:ext cx="5754600" cy="1755720"/>
            <a:chOff x="3444840" y="5041800"/>
            <a:chExt cx="5754600" cy="1755720"/>
          </a:xfrm>
        </p:grpSpPr>
        <p:pic>
          <p:nvPicPr>
            <p:cNvPr id="248" name="Овал 22" descr=""/>
            <p:cNvPicPr/>
            <p:nvPr/>
          </p:nvPicPr>
          <p:blipFill>
            <a:blip r:embed="rId4"/>
            <a:stretch/>
          </p:blipFill>
          <p:spPr>
            <a:xfrm>
              <a:off x="3444840" y="5041800"/>
              <a:ext cx="5754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327560" y="5313240"/>
              <a:ext cx="39895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Вместе живут несколько покол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(бабушка, дедушк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муж, жена, дети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0" name="Прямая со стрелкой 19"/>
          <p:cNvCxnSpPr>
            <a:stCxn id="240" idx="5"/>
          </p:cNvCxnSpPr>
          <p:nvPr/>
        </p:nvCxnSpPr>
        <p:spPr>
          <a:xfrm>
            <a:off x="7921800" y="945720"/>
            <a:ext cx="437040" cy="483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Овал 2"/>
          <p:cNvGrpSpPr/>
          <p:nvPr/>
        </p:nvGrpSpPr>
        <p:grpSpPr>
          <a:xfrm>
            <a:off x="3645000" y="109440"/>
            <a:ext cx="2133360" cy="1365480"/>
            <a:chOff x="3645000" y="109440"/>
            <a:chExt cx="2133360" cy="1365480"/>
          </a:xfrm>
        </p:grpSpPr>
        <p:pic>
          <p:nvPicPr>
            <p:cNvPr id="252" name="Овал 2" descr=""/>
            <p:cNvPicPr/>
            <p:nvPr/>
          </p:nvPicPr>
          <p:blipFill>
            <a:blip r:embed="rId1"/>
            <a:stretch/>
          </p:blipFill>
          <p:spPr>
            <a:xfrm>
              <a:off x="3645000" y="109440"/>
              <a:ext cx="213336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008600" y="320760"/>
              <a:ext cx="14126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ffff00"/>
                  </a:solidFill>
                  <a:uFillTx/>
                  <a:latin typeface="Cambria"/>
                </a:rPr>
                <a:t>СЕМЬ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Прямая со стрелкой 6"/>
          <p:cNvCxnSpPr/>
          <p:nvPr/>
        </p:nvCxnSpPr>
        <p:spPr>
          <a:xfrm>
            <a:off x="8428680" y="1356840"/>
            <a:ext cx="354600" cy="15757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pic>
        <p:nvPicPr>
          <p:cNvPr id="255" name="Picture 2" descr="C:\Users\Sergey\Desktop\фото мать\screen-shot-2010-09-01-at-10-13-35-am-large.png"/>
          <p:cNvPicPr/>
          <p:nvPr/>
        </p:nvPicPr>
        <p:blipFill>
          <a:blip r:embed="rId2"/>
          <a:stretch/>
        </p:blipFill>
        <p:spPr>
          <a:xfrm>
            <a:off x="4786200" y="3357720"/>
            <a:ext cx="4786560" cy="328608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4"/>
          <p:cNvSpPr/>
          <p:nvPr/>
        </p:nvSpPr>
        <p:spPr>
          <a:xfrm>
            <a:off x="214200" y="0"/>
            <a:ext cx="2928960" cy="1500120"/>
          </a:xfrm>
          <a:prstGeom prst="ellipse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Cambria"/>
              </a:rPr>
              <a:t>Пол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mbria"/>
              </a:rPr>
              <a:t>Детей воспитывают два р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8" descr=""/>
          <p:cNvPicPr/>
          <p:nvPr/>
        </p:nvPicPr>
        <p:blipFill>
          <a:blip r:embed="rId3"/>
          <a:stretch/>
        </p:blipFill>
        <p:spPr>
          <a:xfrm>
            <a:off x="6238800" y="0"/>
            <a:ext cx="2905200" cy="3352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9" descr=""/>
          <p:cNvPicPr/>
          <p:nvPr/>
        </p:nvPicPr>
        <p:blipFill>
          <a:blip r:embed="rId4"/>
          <a:stretch/>
        </p:blipFill>
        <p:spPr>
          <a:xfrm>
            <a:off x="0" y="1643040"/>
            <a:ext cx="3357720" cy="3816360"/>
          </a:xfrm>
          <a:prstGeom prst="rect">
            <a:avLst/>
          </a:prstGeom>
          <a:ln w="0">
            <a:noFill/>
          </a:ln>
        </p:spPr>
      </p:pic>
      <p:cxnSp>
        <p:nvCxnSpPr>
          <p:cNvPr id="259" name="Прямая со стрелкой 4"/>
          <p:cNvCxnSpPr>
            <a:endCxn id="256" idx="5"/>
          </p:cNvCxnSpPr>
          <p:nvPr/>
        </p:nvCxnSpPr>
        <p:spPr>
          <a:xfrm flipH="1">
            <a:off x="2714040" y="1071720"/>
            <a:ext cx="1143720" cy="210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60" name="Овал 13"/>
          <p:cNvSpPr/>
          <p:nvPr/>
        </p:nvSpPr>
        <p:spPr>
          <a:xfrm>
            <a:off x="3929040" y="1785960"/>
            <a:ext cx="2643120" cy="2428920"/>
          </a:xfrm>
          <a:prstGeom prst="ellipse">
            <a:avLst/>
          </a:prstGeom>
          <a:solidFill>
            <a:srgbClr val="9b2d1f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00"/>
                </a:solidFill>
                <a:uFillTx/>
                <a:latin typeface="Cambria"/>
              </a:rPr>
              <a:t>Непол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mbria"/>
              </a:rPr>
              <a:t>Детей воспитывает один р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27"/>
          <p:cNvCxnSpPr/>
          <p:nvPr/>
        </p:nvCxnSpPr>
        <p:spPr>
          <a:xfrm>
            <a:off x="5143680" y="1356840"/>
            <a:ext cx="429120" cy="5007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105520" y="4643280"/>
            <a:ext cx="4038480" cy="2705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4572000" y="714240"/>
            <a:ext cx="4572000" cy="2900520"/>
          </a:xfrm>
          <a:prstGeom prst="rect">
            <a:avLst/>
          </a:prstGeom>
          <a:ln w="0">
            <a:noFill/>
          </a:ln>
        </p:spPr>
      </p:pic>
      <p:sp>
        <p:nvSpPr>
          <p:cNvPr id="264" name="Овал 38"/>
          <p:cNvSpPr/>
          <p:nvPr/>
        </p:nvSpPr>
        <p:spPr>
          <a:xfrm>
            <a:off x="7143840" y="0"/>
            <a:ext cx="2000160" cy="857160"/>
          </a:xfrm>
          <a:prstGeom prst="ellipse">
            <a:avLst/>
          </a:prstGeom>
          <a:solidFill>
            <a:srgbClr val="9b2d1f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Cambria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Овал 50"/>
          <p:cNvGrpSpPr/>
          <p:nvPr/>
        </p:nvGrpSpPr>
        <p:grpSpPr>
          <a:xfrm>
            <a:off x="6443640" y="3444840"/>
            <a:ext cx="2755800" cy="1133640"/>
            <a:chOff x="6443640" y="3444840"/>
            <a:chExt cx="2755800" cy="1133640"/>
          </a:xfrm>
        </p:grpSpPr>
        <p:pic>
          <p:nvPicPr>
            <p:cNvPr id="266" name="Овал 50" descr=""/>
            <p:cNvPicPr/>
            <p:nvPr/>
          </p:nvPicPr>
          <p:blipFill>
            <a:blip r:embed="rId3"/>
            <a:stretch/>
          </p:blipFill>
          <p:spPr>
            <a:xfrm>
              <a:off x="6443640" y="3444840"/>
              <a:ext cx="275580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88240" y="3646440"/>
              <a:ext cx="18684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9b2d1f"/>
                  </a:solidFill>
                  <a:uFillTx/>
                  <a:latin typeface="Cambria"/>
                </a:rPr>
                <a:t>Многодет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b2d1f"/>
                  </a:solidFill>
                  <a:latin typeface="Cambria"/>
                </a:rPr>
                <a:t>(более 3-х детей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Прямая со стрелкой 46"/>
          <p:cNvCxnSpPr>
            <a:stCxn id="264" idx="4"/>
          </p:cNvCxnSpPr>
          <p:nvPr/>
        </p:nvCxnSpPr>
        <p:spPr>
          <a:xfrm>
            <a:off x="8142840" y="857160"/>
            <a:ext cx="429480" cy="29296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pic>
        <p:nvPicPr>
          <p:cNvPr id="269" name="Picture 2" descr=""/>
          <p:cNvPicPr/>
          <p:nvPr/>
        </p:nvPicPr>
        <p:blipFill>
          <a:blip r:embed="rId4"/>
          <a:stretch/>
        </p:blipFill>
        <p:spPr>
          <a:xfrm>
            <a:off x="0" y="4022640"/>
            <a:ext cx="3821040" cy="2835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3786120" cy="3203640"/>
          </a:xfrm>
          <a:prstGeom prst="rect">
            <a:avLst/>
          </a:prstGeom>
          <a:ln w="0">
            <a:noFill/>
          </a:ln>
        </p:spPr>
      </p:pic>
      <p:grpSp>
        <p:nvGrpSpPr>
          <p:cNvPr id="271" name="Овал 48"/>
          <p:cNvGrpSpPr/>
          <p:nvPr/>
        </p:nvGrpSpPr>
        <p:grpSpPr>
          <a:xfrm>
            <a:off x="158760" y="2968560"/>
            <a:ext cx="3254400" cy="1109880"/>
            <a:chOff x="158760" y="2968560"/>
            <a:chExt cx="3254400" cy="1109880"/>
          </a:xfrm>
        </p:grpSpPr>
        <p:pic>
          <p:nvPicPr>
            <p:cNvPr id="272" name="Овал 48" descr=""/>
            <p:cNvPicPr/>
            <p:nvPr/>
          </p:nvPicPr>
          <p:blipFill>
            <a:blip r:embed="rId6"/>
            <a:stretch/>
          </p:blipFill>
          <p:spPr>
            <a:xfrm>
              <a:off x="158760" y="2968560"/>
              <a:ext cx="32544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74640" y="3146400"/>
              <a:ext cx="22226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b2d1f"/>
                  </a:solidFill>
                  <a:latin typeface="Cambria"/>
                </a:rPr>
                <a:t>Малодетная (1-2 ребёнк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Picture 5" descr=""/>
          <p:cNvPicPr/>
          <p:nvPr/>
        </p:nvPicPr>
        <p:blipFill>
          <a:blip r:embed="rId7"/>
          <a:stretch/>
        </p:blipFill>
        <p:spPr>
          <a:xfrm>
            <a:off x="3641760" y="3071880"/>
            <a:ext cx="2879640" cy="2388960"/>
          </a:xfrm>
          <a:prstGeom prst="rect">
            <a:avLst/>
          </a:prstGeom>
          <a:ln w="0">
            <a:noFill/>
          </a:ln>
        </p:spPr>
      </p:pic>
      <p:cxnSp>
        <p:nvCxnSpPr>
          <p:cNvPr id="275" name="Прямая со стрелкой 43"/>
          <p:cNvCxnSpPr/>
          <p:nvPr/>
        </p:nvCxnSpPr>
        <p:spPr>
          <a:xfrm flipH="1">
            <a:off x="2820600" y="213120"/>
            <a:ext cx="4680720" cy="29473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Заголовок 1"/>
          <p:cNvGrpSpPr/>
          <p:nvPr/>
        </p:nvGrpSpPr>
        <p:grpSpPr>
          <a:xfrm>
            <a:off x="858960" y="-30240"/>
            <a:ext cx="7883280" cy="1524240"/>
            <a:chOff x="858960" y="-30240"/>
            <a:chExt cx="7883280" cy="1524240"/>
          </a:xfrm>
        </p:grpSpPr>
        <p:pic>
          <p:nvPicPr>
            <p:cNvPr id="2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58960" y="-30240"/>
              <a:ext cx="78832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914400" y="0"/>
              <a:ext cx="777240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600"/>
              </a:br>
              <a:br>
                <a:rPr sz="3600"/>
              </a:br>
              <a:r>
                <a:rPr b="1" lang="ru-RU" sz="3600" spc="-1" strike="noStrike" u="sng">
                  <a:solidFill>
                    <a:srgbClr val="0070c0"/>
                  </a:solidFill>
                  <a:uFillTx/>
                  <a:latin typeface="Cambria"/>
                </a:rPr>
                <a:t>ЧЛЕНЫ СЕМЬИ: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37339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34817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29120" y="1428480"/>
            <a:ext cx="373392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d34817"/>
              </a:solidFill>
              <a:latin typeface="Calibri"/>
            </a:endParaRPr>
          </a:p>
        </p:txBody>
      </p:sp>
      <p:grpSp>
        <p:nvGrpSpPr>
          <p:cNvPr id="281" name="Содержимое 4"/>
          <p:cNvGrpSpPr/>
          <p:nvPr/>
        </p:nvGrpSpPr>
        <p:grpSpPr>
          <a:xfrm>
            <a:off x="-96840" y="2077920"/>
            <a:ext cx="9296280" cy="4133880"/>
            <a:chOff x="-96840" y="2077920"/>
            <a:chExt cx="9296280" cy="4133880"/>
          </a:xfrm>
        </p:grpSpPr>
        <p:pic>
          <p:nvPicPr>
            <p:cNvPr id="282" name="Содержимое 4" descr=""/>
            <p:cNvPicPr/>
            <p:nvPr/>
          </p:nvPicPr>
          <p:blipFill>
            <a:blip r:embed="rId2"/>
            <a:stretch/>
          </p:blipFill>
          <p:spPr>
            <a:xfrm>
              <a:off x="-96840" y="2077920"/>
              <a:ext cx="929628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0" y="2143080"/>
              <a:ext cx="9144000" cy="39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Cambria"/>
                </a:rPr>
                <a:t>Муж и же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Cambria"/>
                </a:rPr>
                <a:t>Дет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Cambria"/>
                </a:rPr>
                <a:t>Родител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Cambria"/>
                </a:rPr>
                <a:t>Усыновители (взрослые)и усыновлённые(дети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Cambria"/>
                </a:rPr>
                <a:t>Мачехи (не родная мама)и отчимы (не родной отец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2060"/>
                  </a:solidFill>
                  <a:latin typeface="Cambria"/>
                </a:rPr>
                <a:t>Падчерицы (не родная дочь)и пасынки (не родной сын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 rot="10800000">
            <a:off x="4952160" y="6133320"/>
            <a:ext cx="3119400" cy="723960"/>
          </a:xfrm>
          <a:prstGeom prst="rect">
            <a:avLst/>
          </a:prstGeom>
          <a:noFill/>
          <a:ln w="9360">
            <a:solidFill>
              <a:srgbClr val="af3408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-28440" y="0"/>
            <a:ext cx="7478640" cy="5500800"/>
          </a:xfrm>
          <a:prstGeom prst="rect">
            <a:avLst/>
          </a:prstGeom>
          <a:ln w="0">
            <a:noFill/>
          </a:ln>
        </p:spPr>
      </p:pic>
      <p:grpSp>
        <p:nvGrpSpPr>
          <p:cNvPr id="286" name="Сердце 2"/>
          <p:cNvGrpSpPr/>
          <p:nvPr/>
        </p:nvGrpSpPr>
        <p:grpSpPr>
          <a:xfrm>
            <a:off x="1847880" y="4359240"/>
            <a:ext cx="7375320" cy="2577960"/>
            <a:chOff x="1847880" y="4359240"/>
            <a:chExt cx="7375320" cy="2577960"/>
          </a:xfrm>
        </p:grpSpPr>
        <p:pic>
          <p:nvPicPr>
            <p:cNvPr id="287" name="Сердце 2" descr=""/>
            <p:cNvPicPr/>
            <p:nvPr/>
          </p:nvPicPr>
          <p:blipFill>
            <a:blip r:embed="rId2"/>
            <a:stretch/>
          </p:blipFill>
          <p:spPr>
            <a:xfrm>
              <a:off x="1847880" y="4359240"/>
              <a:ext cx="737532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130560" y="4983120"/>
              <a:ext cx="48099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mbria"/>
                </a:rPr>
                <a:t>Брак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– это союз мужчины и женщины, заключённый в ЗАГСе, основанный на взаимной любв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0:48:40Z</dcterms:created>
  <dc:creator>Kamenka School</dc:creator>
  <dc:description/>
  <dc:language>en-US</dc:language>
  <cp:lastModifiedBy>Учитель</cp:lastModifiedBy>
  <dcterms:modified xsi:type="dcterms:W3CDTF">2012-01-20T11:41:31Z</dcterms:modified>
  <cp:revision>48</cp:revision>
  <dc:subject/>
  <dc:title>Семейное право</dc:title>
</cp:coreProperties>
</file>